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wmf" ContentType="image/x-wmf"/>
  <Override PartName="/ppt/media/image16.wmf" ContentType="image/x-wmf"/>
  <Override PartName="/ppt/media/image15.gif" ContentType="image/gi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12A-C68B-4AAD-B351-3A8A1F54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9B6-7F57-40A2-8517-73DC3CF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5A4-4C78-45F3-89BD-7DB8156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BA7-0D98-4E24-ADF2-F8F77152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ADC-B4A9-4D55-A9DF-CEF471D9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77D-DF55-4B56-AC46-CB0E05C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023-0436-4D04-8A45-5A275A4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FF7-BF31-4E0A-96C3-AD5901F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2D7-E779-42E5-B2CC-9049863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05A-1081-4ACD-B139-5DCB9D2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A35-4B90-47FF-83A4-F496A0B1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65F-6DA1-4A14-837D-FD69A6EA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77120"/>
            <a:ext cx="8305920" cy="304560"/>
          </a:xfrm>
          <a:prstGeom prst="rect">
            <a:avLst/>
          </a:prstGeom>
          <a:solidFill>
            <a:srgbClr val="00008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4A9-CACC-4ADD-B089-E1606B91E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276720"/>
            <a:ext cx="9296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ustomer Servi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on the Telepho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 spd="med" advTm="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 Dimensions (Con’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curate Inform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easy-to understand examples, don’t blame others, don’t use outdated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uine Concer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empathy, don’t judge caller’s feelings, don’t let one negative call “bleed” in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liable Follow-u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onsibility to carry out promised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itive Attit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Engin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that dr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xcellen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rw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a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8a"/>
                </a:solidFill>
                <a:uFillTx/>
                <a:latin typeface="Tahoma"/>
              </a:rPr>
              <a:t>key ingredient</a:t>
            </a:r>
            <a:r>
              <a:rPr b="0" lang="en-US" sz="3200" spc="-1" strike="noStrike">
                <a:solidFill>
                  <a:srgbClr val="00008a"/>
                </a:solidFill>
                <a:latin typeface="Tahoma"/>
              </a:rPr>
              <a:t> in providing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a"/>
                </a:solidFill>
                <a:latin typeface="Tahoma"/>
              </a:rPr>
              <a:t>5 Dimensions of Customer Ser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s goodwill with ca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the potential for irritating the ca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ens stress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you enjoy your job m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s a more productive 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03200" y="53352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dvantages of a Positive At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rojecting a Positive Attit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eep organized work sp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ke conscious effort to be positiv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k being positive with consequen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oose role model who is positiv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cus on the caller’s needs instead of your 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elings are a choi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1828800" cy="183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1827000" cy="182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ing the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 Promptly (within 3 ring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t the Caller and Identify Your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r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 Carefu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aller’s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474560" cy="1066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YZ Financial Services, this is Jan, how may I help you today?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Mary, I will check on the status of your application.  Would you like to hold, or would you prefer I call you back in a few minutes with an answer?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ying Positive Attitude to Create Positive Im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choices seem simple, but small changes make a dramatic dif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ve phrasing creates an environment where caller can respond with an open m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Hold on a minute?” – positi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blinds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rn Negative Into Posi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’s not in yet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computer problem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file must be lost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’s not my job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never received your application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blinds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ing the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blind trans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the caller whether he or she can 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 caller to whom they’re being trans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efly introduce the caller to the cowork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ing the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Call Form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action you agreed to 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“Good-bye” instead of “Bye-by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532160" cy="1292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ircl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ive Bad N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38120" y="2017800"/>
            <a:ext cx="491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Sandwich Techniqu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the bad ne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between two pie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good n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2895480"/>
          <a:ext cx="380988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5480"/>
                    <a:ext cx="380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34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 comfort and confidence on the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ustomer-service strategies that get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hance the public’s image of the University by providing superior customer service over the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361960" cy="1905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it sh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 person get something to take note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your 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name and phone number at the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 with “Thank-you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496880" cy="903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in" orient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gry Cal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741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zing the Signs of an Angry Cal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pitch spe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pa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-terse ans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gets lou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15000" y="3036960"/>
            <a:ext cx="2666880" cy="2606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Problems of the Angry Ca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4214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ationship problem with th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’s relationship with the customer is br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cause basic needs aren’t being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 problem that needs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newsflash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98440" y="152280"/>
            <a:ext cx="779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 Steps for Resolving the Angry Customer’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with feelings first.  Listen and respond with empat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 questions to get specifics about the compl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ize caller’s problem to get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er a choice of alternatives to fix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the customer decide which alternative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 through on what you agree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possible, do something ex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checker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usive Ca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ler who goes beyond expressing anger about a problem and begins attacking the person handling th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includes swearing and personal at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checker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Abusive Cal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sive Calle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’re not the tar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caller w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beg your pardon?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don’t appreciate the language you are using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aren’t able to talk with me without swearing, I will have to end this call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all terminates, inform supervisor immediately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822320" cy="1824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88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ndling Other Difficult Situ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lls at once: ask if one can hold, thank for pat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angry about being transferred/put on hold: brief, blameless a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hangs up: tell 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is crying: use empathy and slow your pace, use “take your tim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1447560" cy="838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Difficult Sit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uses another language-don’t increase volume, try simple phr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is mentally challenged-gear level of language, focus on critical information, summarize for agre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er asks for manager- try to address the problem yourself, ask if they can hold, inform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26360" y="152280"/>
            <a:ext cx="1817640" cy="1600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end of this training, you will be able to define and descri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ustomer’s Basic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imensions of Custome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Manage a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ing a Positive I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ques for handling difficult phone situ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2100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estions to Ask Yoursel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6920" y="209340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my current skills help reduce my stress when dealing with difficult cal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I enjoy being at work when I make a valuable contribution to the univers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the university save money when I provide accurate and responsive customer service on the ph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I feel personally satisfied when I’m doing a great job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5486400"/>
            <a:ext cx="1219320" cy="838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304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ahoma"/>
              </a:rPr>
              <a:t>Why Should You Improv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209680"/>
            <a:ext cx="838188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very call is an opportunity to enhance customer relations, your image, and the image of the univers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Remembe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e typical person tells 20 people about a negative experience and tells only 5 people about a positive experi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The Basic Needs of the Customer on the 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be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cognized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me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feel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val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feel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pprec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feel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s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feel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underst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o feel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omfortable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about a want or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View each caller (both internal and external) as a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tisfying customers over the telephone is often more challenging than serving face-to-face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1458720" cy="1820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2133720" cy="263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 Dimensions of Customers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fessionalis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edy Respo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curate In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uine Concer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iable Follow-throug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5000">
    <p:cover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fession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use thank you and please, control background noise, don’t use office-specific jargon or acrony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edy Respons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dict follow-up time, don’t pad conversation with idle chatter, don’t take more than 24 hours to return a call, time is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814400" cy="1452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7:02:06Z</dcterms:created>
  <dc:creator/>
  <dc:description/>
  <dc:language>en-US</dc:language>
  <cp:lastModifiedBy>cybermate</cp:lastModifiedBy>
  <dcterms:modified xsi:type="dcterms:W3CDTF">2009-03-04T11:53:58Z</dcterms:modified>
  <cp:revision>72</cp:revision>
  <dc:subject/>
  <dc:title>Telephone Training</dc:title>
</cp:coreProperties>
</file>